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10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2.wmf" ContentType="image/x-wmf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23.png" ContentType="image/png"/>
  <Override PartName="/ppt/media/image6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4.jpeg" ContentType="image/jpeg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9724-3858-4D44-BB56-B367C669F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FB40-8D34-4307-97AE-42828F796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CF90-D8BE-491F-88A1-047FC0C9C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338C-B13C-4138-AA29-9EB004DA3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DC8BB-F86A-43FD-970E-F345685A6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BB8F5-FF2A-434F-A727-C521772FC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2EE1C-310D-43C8-A266-074EBBEBD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CFB1B-AA62-4FB1-9D3A-CA23199C2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A6569-711C-4605-BD4F-652763AF2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8DE5F-579A-484C-B3AC-9486CF49A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6454D-245F-4D10-9B85-F6F4AFDAF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DF63-A006-4ECC-A05E-C23616318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E22F8-9361-4D62-8E6C-07526FA49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D9FAA-5728-4883-9DBC-014CFD348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A7ABD-A4BF-4536-BE6F-F426AF16D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83F66-D019-459C-89B6-4001DC3D0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733E4-B4FF-4B4C-BE67-4D652CDD2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E96A-329F-4CF7-A755-35FC10993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6740-C196-4D87-81F9-1B0F7D03C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BD1F-779F-444B-BECE-1AA504FE9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BE0D-F75A-4202-A2D7-8C4B0F170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9514-27AE-475A-8C6A-A8BF1015F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02E5-FE65-4CEB-83F3-80F4D4A01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9F7D-42CF-4ABF-B092-185F09250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4ACDD-028A-4948-997F-94C87DF7EEEC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E64B6-E9B4-42D0-B809-F389DC96A067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roller.ru/content/text/2185/7.jpg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www.roller.ru/content/text/2185/9.jpg" TargetMode="External"/><Relationship Id="rId4" Type="http://schemas.openxmlformats.org/officeDocument/2006/relationships/image" Target="../media/image3.jpeg"/><Relationship Id="rId5" Type="http://schemas.openxmlformats.org/officeDocument/2006/relationships/hyperlink" Target="http://www.roller.ru/content/text/2185/9.jpg" TargetMode="External"/><Relationship Id="rId6" Type="http://schemas.openxmlformats.org/officeDocument/2006/relationships/hyperlink" Target="http://www.roller.ru/content/text/2185/9.jpg" TargetMode="External"/><Relationship Id="rId7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roller.ru/content/text/2185/10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-181080" y="-4618080"/>
            <a:ext cx="9355320" cy="1215072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4000" y="596880"/>
            <a:ext cx="79642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Лавины- грозное явление природы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5338440" y="4941720"/>
            <a:ext cx="2529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Verdana"/>
              </a:rPr>
              <a:t>Выполнила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Verdana"/>
              </a:rPr>
              <a:t>Богданова Ксения,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Verdana"/>
              </a:rPr>
              <a:t>ученица 11 класса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Verdana"/>
              </a:rPr>
              <a:t>Руководитель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Verdana"/>
              </a:rPr>
              <a:t>Бойко с.М.,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Verdana"/>
              </a:rPr>
              <a:t>учитель географии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327600" y="6093000"/>
            <a:ext cx="789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Толщина снежного покрова в районе «Полки» составляет более 2м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0" y="3249720"/>
            <a:ext cx="4809960" cy="360828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4788000" y="0"/>
            <a:ext cx="4163760" cy="312264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067280" cy="304956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5270400" y="3448080"/>
            <a:ext cx="328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Один день из жизни «Полки»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13.12.08г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4"/>
          <a:stretch/>
        </p:blipFill>
        <p:spPr>
          <a:xfrm>
            <a:off x="5508720" y="4132440"/>
            <a:ext cx="3405240" cy="25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651640" cy="423864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179280" y="4437000"/>
            <a:ext cx="3419640" cy="222876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4643280" y="2060640"/>
            <a:ext cx="4211640" cy="31590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4217040" y="5589720"/>
            <a:ext cx="492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Техника, работающая  на разборах лавин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23640" y="4076640"/>
            <a:ext cx="5113080" cy="27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Book Antiqua"/>
              </a:rPr>
              <a:t>Засыпанных лавиной людей разыскивают зондами. Делать это нужно быстро, так как через 20 минут половина пострадавших умирает. Шанс на спасение увеличивается, если спасатели и  жертвы имеют при себе «поисковые приборы для засыпанных», которые посылают и принимают сигналы.</a:t>
            </a:r>
            <a:br>
              <a:rPr sz="2000"/>
            </a:br>
            <a:endParaRPr b="0" lang="en-US" sz="20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4788000" cy="374328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4961520" y="260280"/>
            <a:ext cx="4181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Лавина может нести со склона до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миллиона тонн снега и гнать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перед собой воздушную ударную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волну, которая, как при взрыве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бомбы, уничтожает все на своем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пути.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Кто встретится ей на дороге,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будет раздавлен.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6156360" y="2610000"/>
            <a:ext cx="278748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333360"/>
            <a:ext cx="2787480" cy="37162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427640" y="2133720"/>
            <a:ext cx="3743280" cy="28080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3564000" y="325800"/>
            <a:ext cx="5087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Arial"/>
              </a:rPr>
              <a:t>Экспедиция российских альпинистов на Гималайский пик К2 (8611 м) вынуждена была прекратить восхождение из-за лавины, которая обрушилась на один из промежуточных лагерей и унесла жизни четверых восходителей. 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3" name="">
            <a:hlinkClick r:id="rId5"/>
          </p:cNvPr>
          <p:cNvSpPr/>
          <p:nvPr/>
        </p:nvSpPr>
        <p:spPr>
          <a:xfrm>
            <a:off x="-4616280" y="2714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4" name="">
            <a:hlinkClick r:id="rId6"/>
          </p:cNvPr>
          <p:cNvSpPr/>
          <p:nvPr/>
        </p:nvSpPr>
        <p:spPr>
          <a:xfrm>
            <a:off x="179280" y="4965480"/>
            <a:ext cx="87854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31 мая 1970 года в Южноамериканских Кордильерах  в результате сильного землетрясения.  со склонов сорвалось не менее 5 миллионов кубических метров снега и льда. 50 миллионов кубических метров снега, льда и горных пород  неслось  со скоростью 320 км/ч!!! 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Эта лавина разрушила  поселок Ранаирка и  город Юнгай. Масса снега, воды и камней преодолела в своем движении почти 17 км! Последствия были ужасны… Почти 20 тысяч человек расстались с жизнью. 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3327480" cy="443700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611280" y="259920"/>
            <a:ext cx="814680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3419640" y="2997360"/>
            <a:ext cx="5370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Причины возникновения и последствия лавин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-Характер подстилающего слоя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 – 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глубина залегания,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устойчивость, характер поверхности.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-Снегопад – количество, тип, плотность, интенсивность.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-Скорость и направление ветра.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-Температура.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-Оседание снега.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419640" y="333360"/>
            <a:ext cx="5473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buClr>
                <a:srgbClr val="3333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ff"/>
                </a:solidFill>
                <a:latin typeface="Verdana"/>
              </a:rPr>
              <a:t>Матиас Здарский так сказал об этом явлении: </a:t>
            </a:r>
            <a:r>
              <a:rPr b="1" i="1" lang="ru-RU" sz="1600" spc="-1" strike="noStrike">
                <a:solidFill>
                  <a:srgbClr val="3333ff"/>
                </a:solidFill>
                <a:latin typeface="Verdana"/>
              </a:rPr>
              <a:t>«Невинный на вид белый снег- это не волк в овечьей шкуре, а тигр в шкуре ягнёнка».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627280" cy="235116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2627280" y="1052640"/>
            <a:ext cx="2077920" cy="237636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4788000" y="2060640"/>
            <a:ext cx="2305080" cy="211608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4"/>
          <a:stretch/>
        </p:blipFill>
        <p:spPr>
          <a:xfrm>
            <a:off x="6335640" y="4187880"/>
            <a:ext cx="2808360" cy="267012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1332000" y="5667480"/>
            <a:ext cx="489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Сход сухой лавины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Сухие лавины состоят из рыхлого снега и мчатся особенно стремительно.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479600" y="4365720"/>
            <a:ext cx="502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3. Лавина набирает скорость, доходящую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порой до 350 км/час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845960" y="1216080"/>
            <a:ext cx="438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2. Разогнавшись, масса снега может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подняться в воздух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496240" y="620640"/>
            <a:ext cx="664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1. Рыхлый снег скользит по слою более плотного снега.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213440" y="189000"/>
            <a:ext cx="296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6699"/>
                </a:solidFill>
                <a:uFillTx/>
                <a:latin typeface="Arial"/>
              </a:rPr>
              <a:t>Развитие лавины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Существуют несколько классификаций лавин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По объёму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По рельефу лавиносбора и пути лавины (осов, лотковая лавина, прыгающая лавина)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По консистенции снега (сухая, мокрая)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2488680" y="4279680"/>
            <a:ext cx="6147000" cy="14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2" name="alt_say-9562570" descr=""/>
          <p:cNvPicPr/>
          <p:nvPr/>
        </p:nvPicPr>
        <p:blipFill>
          <a:blip r:embed="rId1"/>
          <a:stretch/>
        </p:blipFill>
        <p:spPr>
          <a:xfrm>
            <a:off x="0" y="968400"/>
            <a:ext cx="9144000" cy="53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2488680" y="4279680"/>
            <a:ext cx="6147000" cy="14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0" y="766800"/>
            <a:ext cx="9144000" cy="60912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4400640" y="0"/>
            <a:ext cx="4743360" cy="33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Verdana"/>
              </a:rPr>
              <a:t>Объем лавин сошедших с 2004-2009год по Федеральной автодороге М-54 км  600+000-605+000 по ФГУ ДЭП №363</a:t>
            </a: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0" y="2205000"/>
          <a:ext cx="4500720" cy="3384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205000"/>
                    <a:ext cx="4500720" cy="33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0" name=""/>
          <p:cNvGraphicFramePr/>
          <p:nvPr/>
        </p:nvGraphicFramePr>
        <p:xfrm>
          <a:off x="4500720" y="2141640"/>
          <a:ext cx="4392360" cy="34480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00720" y="2141640"/>
                    <a:ext cx="4392360" cy="344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4" name=""/>
          <p:cNvGraphicFramePr/>
          <p:nvPr/>
        </p:nvGraphicFramePr>
        <p:xfrm>
          <a:off x="1187280" y="2781360"/>
          <a:ext cx="6707160" cy="3457440"/>
        </p:xfrm>
        <a:graphic>
          <a:graphicData uri="http://schemas.openxmlformats.org/drawingml/2006/table">
            <a:tbl>
              <a:tblPr/>
              <a:tblGrid>
                <a:gridCol w="1967040"/>
                <a:gridCol w="2504880"/>
                <a:gridCol w="2235240"/>
              </a:tblGrid>
              <a:tr h="693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Горные хребты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Количество лавиноопасных участков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Общая площадь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участков, кв.км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Араданский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4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11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Ойский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Шешпир-Тайга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1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2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Куртушибинский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Алдыр-Тайга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2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4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Метгул-Тайга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24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4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Ергаки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2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Тушканчик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Кулумыс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19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30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3T15:13:24Z</dcterms:created>
  <dc:creator>*</dc:creator>
  <dc:description/>
  <dc:language>en-US</dc:language>
  <cp:lastModifiedBy>*</cp:lastModifiedBy>
  <dcterms:modified xsi:type="dcterms:W3CDTF">2010-01-17T04:42:57Z</dcterms:modified>
  <cp:revision>11</cp:revision>
  <dc:subject/>
  <dc:title>Слайд 1</dc:title>
</cp:coreProperties>
</file>